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1ECB-9E69-4AD0-9F44-B1EC0188C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46DD-2DE9-45A7-8045-CBB136449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E7C8-123D-40A1-B42C-AEA9BB942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2FA3-1E89-477F-9276-0A469DF02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0048-F0AF-42B1-8F54-09A101C8C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991B-8F3A-4617-B2A1-3FBFD329DE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B87C-91E7-4AB5-B76F-BBA1063F6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13A8-6469-4574-92AA-E3A4AFF88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C7EA-5695-40FE-9E7A-A42FF290C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72D3-D077-4243-BA65-10743FB69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D650-2FF8-4A06-BFBC-4775F3FFA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EFCA-F23F-431A-87F9-A6145629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229E-57FC-4324-BEFB-282DDFB02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239D-4715-4635-9B54-5B5ED3271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E6E6-35FF-4E40-9796-4FB45DD91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63C7-2DA6-49FE-9C4B-EA62207E8E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3EB6-440D-4A9C-95BE-0DF33804C6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241-002E-4E8F-A3C5-670209DAD9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7D6-14AE-41B2-A120-D561AA8C63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75C-51DD-4A2F-ABEF-517A85820C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436-FA61-4275-9FAA-0D68D95589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6F9-2148-4ACB-B5FE-618813D80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7317-8D1F-48B4-9C17-0F7324502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E19-420A-4ED6-BABA-ECAA41E676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319-9630-486D-94A2-DAB5677B59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B12-8EB8-4A25-A2E0-3CCC94BA99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C0E-FBE6-4716-98AD-550D93537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8F3-EE18-469C-B9A3-3ABB600574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1D6-91DE-491F-8EBE-6BAFB9365A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63D-9CA9-4947-AE61-8D07175ECB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5D58E-6790-45FB-8E54-15DA4CAFAC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10994-819E-4306-BE36-F6DE7BA0FC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6E21-B08B-45F3-9366-CC82018F3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864F-DF0D-4CFA-98BA-D7908EA80F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16951-AD53-4F54-8C8A-502DA7B237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96DD4-49A5-4A71-A986-E602BEED01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3A150-1749-4C72-BDEF-3AADA54433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F7028-B8BF-416E-B333-ABFCF0019F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011A3-38D7-4D56-AA3E-FC021A5E2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37C2D-714B-489E-B750-57BE136581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3549E-835D-456D-A504-4675072001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F7446-1F90-489E-BF2E-A2F8EBD425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981F4-683E-4B55-AD05-E2F459CA7D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5EC6A-2D06-4BFE-8734-5A6BBBF8F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4F27-9B6C-4881-A7ED-929EA00685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46175-53A1-4A35-81B4-2799A22F8F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3EE4-7086-40A4-8684-B86E876E01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1FEF4-D740-4EC4-94B4-AE92678158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C1B8-5215-4486-B74E-392A6BB22E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749A-EEB0-4F53-879F-8A160ADFDF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43489-3C47-4C4C-9390-0A50ECAC1C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E85BD-728B-4D2F-AA68-E1A67BA279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A46A7-9A01-480A-A0F8-239F9FF0CB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1EE5-2CA2-483D-A0A2-B35D9E2CBC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9DA4-5AF5-4181-8763-68BD3FA00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29A3-2A1C-4A03-9C56-667FCF61477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523F7-6358-4B7E-8140-F7B96C1F0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E357-C37D-4DCC-847C-F829CD82D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B06E-6272-4892-89C0-85F444FBB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4426-941B-4D0E-AE61-1CA5C96AF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oneTexte 34"/>
          <p:cNvSpPr/>
          <p:nvPr/>
        </p:nvSpPr>
        <p:spPr>
          <a:xfrm>
            <a:off x="0" y="6578640"/>
            <a:ext cx="83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CAPACITAIRE DE L’EHPAD DU CENTRE HOSPITALIER LOUIS PASTEUR, À D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09920" y="657828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3C467-05F2-4656-B1D1-39190F15708B}" type="slidenum">
              <a:rPr b="0" lang="fr-F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Connecteur droit 4"/>
          <p:cNvSpPr/>
          <p:nvPr/>
        </p:nvSpPr>
        <p:spPr>
          <a:xfrm>
            <a:off x="0" y="65484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ZoneTexte 34"/>
          <p:cNvSpPr/>
          <p:nvPr/>
        </p:nvSpPr>
        <p:spPr>
          <a:xfrm>
            <a:off x="0" y="6578640"/>
            <a:ext cx="83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CAPACITAIRE DE L’EHPAD DU CENTRE HOSPITALIER LOUIS PASTEUR, À D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Connecteur droit 4"/>
          <p:cNvSpPr/>
          <p:nvPr/>
        </p:nvSpPr>
        <p:spPr>
          <a:xfrm>
            <a:off x="0" y="65484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7009920" y="657828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FAB61-4E16-4893-9D64-82F5293D40C6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34"/>
          <p:cNvSpPr/>
          <p:nvPr/>
        </p:nvSpPr>
        <p:spPr>
          <a:xfrm>
            <a:off x="0" y="6578640"/>
            <a:ext cx="83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CAPACITAIRE DE L’EHPAD DU CENTRE HOSPITALIER LOUIS PASTEUR, À D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cteur droit 4"/>
          <p:cNvSpPr/>
          <p:nvPr/>
        </p:nvSpPr>
        <p:spPr>
          <a:xfrm>
            <a:off x="0" y="65484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5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ersion du </a:t>
            </a:r>
            <a:fld id="{698AAFF1-C87F-462B-933F-4C47A39734BE}" type="datetime"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7009920" y="657828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F8E0-D87D-472E-8701-D49C9EB28E99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oneTexte 34"/>
          <p:cNvSpPr/>
          <p:nvPr/>
        </p:nvSpPr>
        <p:spPr>
          <a:xfrm>
            <a:off x="0" y="6578640"/>
            <a:ext cx="83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CAPACITAIRE DE L’EHPAD DU CENTRE HOSPITALIER LOUIS PASTEUR, À D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cteur droit 4"/>
          <p:cNvSpPr/>
          <p:nvPr/>
        </p:nvSpPr>
        <p:spPr>
          <a:xfrm>
            <a:off x="0" y="65484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ersion du </a:t>
            </a:r>
            <a:fld id="{60440E0D-1AFD-4EE0-9454-5B27533533E1}" type="datetime"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Num" idx="4"/>
          </p:nvPr>
        </p:nvSpPr>
        <p:spPr>
          <a:xfrm>
            <a:off x="7009920" y="657828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77394-85D9-49DF-B167-D970B5B84872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oneTexte 34"/>
          <p:cNvSpPr/>
          <p:nvPr/>
        </p:nvSpPr>
        <p:spPr>
          <a:xfrm>
            <a:off x="0" y="6578640"/>
            <a:ext cx="83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CAPACITAIRE DE L’EHPAD DU CENTRE HOSPITALIER LOUIS PASTEUR, À D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cteur droit 4"/>
          <p:cNvSpPr/>
          <p:nvPr/>
        </p:nvSpPr>
        <p:spPr>
          <a:xfrm>
            <a:off x="0" y="65484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Num" idx="5"/>
          </p:nvPr>
        </p:nvSpPr>
        <p:spPr>
          <a:xfrm>
            <a:off x="7009920" y="657828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93E0D-7037-4B8F-8334-7564C9B5B268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9280"/>
            <a:ext cx="7824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DATAIRE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27560" y="1755720"/>
            <a:ext cx="21222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010280" y="6578640"/>
            <a:ext cx="2133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F40C3-4BC9-4430-87C1-536E883677A1}" type="slidenum">
              <a:rPr b="0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re 1"/>
          <p:cNvSpPr/>
          <p:nvPr/>
        </p:nvSpPr>
        <p:spPr>
          <a:xfrm>
            <a:off x="8209080" y="176040"/>
            <a:ext cx="93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278320" y="56196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contenu 2"/>
          <p:cNvSpPr/>
          <p:nvPr/>
        </p:nvSpPr>
        <p:spPr>
          <a:xfrm>
            <a:off x="6127920" y="4764240"/>
            <a:ext cx="2122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278320" y="357012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8120" y="579600"/>
          <a:ext cx="4919760" cy="5803560"/>
        </p:xfrm>
        <a:graphic>
          <a:graphicData uri="http://schemas.openxmlformats.org/drawingml/2006/table">
            <a:tbl>
              <a:tblPr/>
              <a:tblGrid>
                <a:gridCol w="4919760"/>
              </a:tblGrid>
              <a:tr h="2743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itulé de l'opér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e l'Ouvrag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dataire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raitants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ion réalisé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de réalis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(€ HT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plancher (m²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98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écificités du projet en lien avec les exigences du Règlement de Consultation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79280"/>
            <a:ext cx="7824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DATAIRE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27560" y="1755720"/>
            <a:ext cx="21222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7010280" y="6578640"/>
            <a:ext cx="2133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79A40-5A8B-419B-8241-FC878A04D695}" type="slidenum">
              <a:rPr b="0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8209080" y="176040"/>
            <a:ext cx="93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278320" y="56196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contenu 2"/>
          <p:cNvSpPr/>
          <p:nvPr/>
        </p:nvSpPr>
        <p:spPr>
          <a:xfrm>
            <a:off x="6127920" y="4764240"/>
            <a:ext cx="2122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278320" y="357012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8120" y="579600"/>
          <a:ext cx="4919760" cy="5803560"/>
        </p:xfrm>
        <a:graphic>
          <a:graphicData uri="http://schemas.openxmlformats.org/drawingml/2006/table">
            <a:tbl>
              <a:tblPr/>
              <a:tblGrid>
                <a:gridCol w="4919760"/>
              </a:tblGrid>
              <a:tr h="2743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itulé de l'opér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e l'Ouvrag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dataire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raitants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ion réalisé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de réalis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(€ HT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plancher (m²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98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écificités du projet en lien avec les exigences du Règlement de Consultation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9280"/>
            <a:ext cx="7824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DATAIRE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27560" y="1755720"/>
            <a:ext cx="21222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7010280" y="6578640"/>
            <a:ext cx="2133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99142-7F62-4C4F-BA03-07FA78F26E0F}" type="slidenum">
              <a:rPr b="0" lang="fr-FR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re 1"/>
          <p:cNvSpPr/>
          <p:nvPr/>
        </p:nvSpPr>
        <p:spPr>
          <a:xfrm>
            <a:off x="8209080" y="176040"/>
            <a:ext cx="93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278320" y="56196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contenu 2"/>
          <p:cNvSpPr/>
          <p:nvPr/>
        </p:nvSpPr>
        <p:spPr>
          <a:xfrm>
            <a:off x="6127920" y="4764240"/>
            <a:ext cx="2122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SERER IM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278320" y="3570120"/>
            <a:ext cx="3587760" cy="28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8120" y="579600"/>
          <a:ext cx="4919760" cy="5803560"/>
        </p:xfrm>
        <a:graphic>
          <a:graphicData uri="http://schemas.openxmlformats.org/drawingml/2006/table">
            <a:tbl>
              <a:tblPr/>
              <a:tblGrid>
                <a:gridCol w="4919760"/>
              </a:tblGrid>
              <a:tr h="2743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itulé de l'opér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e l'Ouvrag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dataire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raitants MO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ion réalisé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de réalisation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(€ HT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plancher (m²)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98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écificités du projet en lien avec les exigences du Règlement de Consultation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4:23:56Z</dcterms:created>
  <dc:creator>gilles villaneva;Gilliane PRUVOST</dc:creator>
  <dc:description/>
  <dc:language>en-US</dc:language>
  <cp:lastModifiedBy>Etienne MOREL</cp:lastModifiedBy>
  <cp:lastPrinted>2021-06-21T09:38:40Z</cp:lastPrinted>
  <dcterms:modified xsi:type="dcterms:W3CDTF">2025-08-08T11:46:26Z</dcterms:modified>
  <cp:revision>690</cp:revision>
  <dc:subject/>
  <dc:title>mp</dc:title>
</cp:coreProperties>
</file>